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3D02-DFD1-4B0E-84AD-A6A032034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9D03-A916-44FB-A1AF-D00BDDAB9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A37E-74D6-4EC2-BEA2-B5A0EA6FB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A7DD-230F-424B-BFB4-608432C8B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10A44E-9608-45CF-A7B0-6893880F2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9345E1-E225-4AC1-B82D-C45716B7D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0286CA-0C74-4844-A9A1-24633C092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B0D521-DB45-4126-BE3C-F038475EA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CDCB84-E838-4851-8666-DAEA2B2D5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5C8B3C-C699-4168-B19E-4B615356E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0DEC80-4E36-4707-B0B5-AB335BBB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29EE-88C3-465A-98C9-DA56CD98B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BFDA9D-2137-4A3E-8482-A1F94583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04CD89-6A06-4DF3-9401-D8C585B6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488B16-D0BB-4D60-944B-A30C12807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0EB304-4253-4B2E-AF9A-38E0C5A96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6C5EFF-566D-4153-94DE-6F91B440D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7CA6-D8C0-44D9-B094-9748A1B98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8D43-C130-44DC-AFF2-E19057FB3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F1F3-6CB1-4577-B52D-0091EF7E0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BCF2-9EC8-4894-BCC8-E50A24C41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7897-E688-4AEC-BDF3-1DF99C85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F572-29A4-4F6F-8037-52A2FA3B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9950-345C-4B92-866A-37433507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7EB96-D88D-4960-AE4C-04ACFE1FBEEA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4E524-FEF3-4B80-98F5-E7219D899725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Teoría de la relevancia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(Sperber y Wilson)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El motivo por el cual los hablantes son cooperativos es que ganan un enriquecimiento de su conocimiento del mundo.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La relevancia de un enunciado depende de sus efectos cognoscitivos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Verdana"/>
              </a:rPr>
              <a:t>Determinación de las implicaturas</a:t>
            </a:r>
            <a:r>
              <a:rPr b="0" lang="es-ES" sz="4400" spc="-1" strike="noStrike" u="sng">
                <a:solidFill>
                  <a:srgbClr val="ffffff"/>
                </a:solidFill>
                <a:uFillTx/>
                <a:latin typeface="Tahoma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as fuentes de que proceden las implicaturas pued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omarse directamente en el contexto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ecuperarse del conocimiento almacenado en la memo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deducirse por inferenci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¿Has estado últimamente con Juan? Yo no me relaciono con los delincuen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rimero el destinatario tiene que suplir el eslabón que falta (Juan es un delincuente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l segundo paso será combinarlo con el supuesto comunicado, para sacar la conclusión  implicada genera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(tercer paso): Yo no me relaciono con los delincuentes – Juan es un delincuente – Yo no me relaciono con Juan  - No he estado con Juan últimame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¿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Verdana"/>
              </a:rPr>
              <a:t>Por qué hay implicaturas?</a:t>
            </a:r>
            <a:r>
              <a:rPr b="0" lang="es-E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porque con la respuesta directa se habrían perdido una serie de supuestos que quedan sugeridos: que uno ha roto la relación con Juan, que uno desaprueba el comportamiento de Ju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a interpretación que se logra, por lo tanto, es mucho más rica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it-IT" sz="44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Verdana"/>
              </a:rPr>
              <a:t>En la teoría  de relevanc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s-ES" sz="2400" spc="-1" strike="noStrike">
                <a:solidFill>
                  <a:srgbClr val="ffffff"/>
                </a:solidFill>
                <a:latin typeface="Verdana"/>
              </a:rPr>
              <a:t>en un un enunciado podemos 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distinguir tre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nivele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Nivel 1 : significado convencional de la oració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- Nivel 2: lo dich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- Nivel 3: lo comunic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o dicho es la “explicatura” del enunciado, o sea la proposición completa de lo que expresa el hablant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Para comunicarse lo importante es ser relevante, no decir la verdad literal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La omisión de parte de la información para ser relevante se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lama 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loose talk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, o lenguaje aproxim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[Entre dos personas que se acaban de conocer] 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A: Y usted, ¿en qué trabaja? B: Soy oficinis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[En la declaración de Hacienda]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C: Y usted, ¿en que trabaja? B: Soy administrativo de clase B, especialista en gestión informática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Metáfo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egún Sperber y Wilson las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metáfora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son un subtipo de 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loose talk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, y se analizan de la misma maner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j:  una mamá dice al niño “Eres un cerdito” 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implicatura más fuerte : es un niño sucio 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implicatura más débil : es adorable (usa un diminutivo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e deduce que muchas veces las metáforas producen mayor ganancia cognoscitiva, porque con un solo enunciado se puede derivar un significado más ampli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ffffff"/>
                </a:solidFill>
                <a:uFillTx/>
                <a:latin typeface="Verdana"/>
              </a:rPr>
              <a:t>Un enunciado es irrelevante cuand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La nueva información no permite ninguna interacción con la preceden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La información ya se conocí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La información  es incoherente con respecto al contex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Verdana"/>
              </a:rPr>
              <a:t>La información nueva puede se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Inmediatamente accesible, que no necesita esfuezos de descodific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Totalmente desconectada, que necesita mucho esfuerz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Nueva pero conectada con las informaciones precedent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La conexión produce información nuev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Una nueva </a:t>
            </a:r>
            <a:r>
              <a:rPr b="1" lang="it-IT" sz="2800" spc="-1" strike="noStrike">
                <a:solidFill>
                  <a:srgbClr val="ffffff"/>
                </a:solidFill>
                <a:latin typeface="Verdana"/>
              </a:rPr>
              <a:t>información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puede</a:t>
            </a:r>
            <a:r>
              <a:rPr b="0" lang="it-IT" sz="4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Reforzar la </a:t>
            </a:r>
            <a:r>
              <a:rPr b="1" lang="it-IT" sz="2800" spc="-1" strike="noStrike">
                <a:solidFill>
                  <a:srgbClr val="ffffff"/>
                </a:solidFill>
                <a:latin typeface="Verdana"/>
              </a:rPr>
              <a:t>información  ya presente en la memo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Verdana"/>
              </a:rPr>
              <a:t>Debilitar o contradecir la información  anteri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l principio de relevancia es universal y se aplica a todos los actos de comunicación intencional</a:t>
            </a: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s-ES" sz="40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a relevancia no es un principio intrínseco de los enunciado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urge de la relación entre enunciado y el individuo en una situación concreta: lo que es relevante para alguien en un momento dado, puede no serlo para otra persona o para el mismo individuo en otro moment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Verdana"/>
              </a:rPr>
              <a:t>explicatura e implicatura</a:t>
            </a:r>
            <a:r>
              <a:rPr b="0" lang="it-IT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a 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Explicatura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s el contenido que se comunica explicitamente a tavés de un enunciado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a 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implicatura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se refiere al contenido que se deduce basandose en los supuestos anterior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0240" y="3573360"/>
            <a:ext cx="34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916200" y="1469520"/>
            <a:ext cx="7306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Verdana"/>
              </a:rPr>
              <a:t>Determinación de las explicaturas: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a primera tarea del destinatario 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descodificar correctamente un enunci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sto se hace a través de 3 subtare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Desambigu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asignación de refere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nriquecimiento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Verdana"/>
              </a:rPr>
              <a:t>Desambiguación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: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utiliza la  información que ofrece la situació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: : 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¿Donde está el gato?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 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Asignación de referente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se sirve de la situación del entorno. Ej. 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Cierra la ventana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”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enriquecimiento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es la especificación de referencias vag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a decisión que se toma es casi automátic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 principio que rige estos 3 procesos es el de relevancia: el destinatario elige la opción que implica menor esfuerzo y que , a la vez, es más coheren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18:10:52Z</dcterms:created>
  <dc:creator>User</dc:creator>
  <dc:description/>
  <dc:language>en-US</dc:language>
  <cp:lastModifiedBy>Lau</cp:lastModifiedBy>
  <dcterms:modified xsi:type="dcterms:W3CDTF">2011-10-28T12:19:19Z</dcterms:modified>
  <cp:revision>27</cp:revision>
  <dc:subject/>
  <dc:title>Diapositiva 1</dc:title>
</cp:coreProperties>
</file>